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D517-915D-4203-B281-9A4314543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4E4A-F50E-47FE-B502-535AFD67B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7728-0900-420B-A23D-3F133C116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rbon 12 = ligh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rbon 13 = heavy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rbon 14 = unstable - radioa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A12D-357B-4635-BB59-2B60EFF1F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ver 112 known ele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95 occur naturall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s are produced in lab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st elements are not stable enough to exist in pure form in nature therefore they are found as compound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st minerals are combinations of elemen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B716-1B5B-4EE0-8F86-E7572ABEE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09D8-5582-464F-BA0E-C67C07EF1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tals = good conductors of heat and electric curr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nmentals = elements that are poor conductors of heat and electric curr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talloids = elements with properties that are somewhat similar to metals and nonmeta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80E4-2412-4FB2-B676-A9A1F0535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w many protons, neutrons and electrons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6B80-EFC8-4495-BC6C-7273E2139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31"/>
          <p:cNvGrpSpPr/>
          <p:nvPr/>
        </p:nvGrpSpPr>
        <p:grpSpPr>
          <a:xfrm>
            <a:off x="-15840" y="0"/>
            <a:ext cx="9159840" cy="6248520"/>
            <a:chOff x="-15840" y="0"/>
            <a:chExt cx="9159840" cy="6248520"/>
          </a:xfrm>
        </p:grpSpPr>
        <p:grpSp>
          <p:nvGrpSpPr>
            <p:cNvPr id="82" name="Group 28"/>
            <p:cNvGrpSpPr/>
            <p:nvPr/>
          </p:nvGrpSpPr>
          <p:grpSpPr>
            <a:xfrm>
              <a:off x="449280" y="1828800"/>
              <a:ext cx="8305920" cy="4419720"/>
              <a:chOff x="449280" y="1828800"/>
              <a:chExt cx="8305920" cy="4419720"/>
            </a:xfrm>
          </p:grpSpPr>
          <p:sp>
            <p:nvSpPr>
              <p:cNvPr id="83" name="AutoShape 29"/>
              <p:cNvSpPr/>
              <p:nvPr/>
            </p:nvSpPr>
            <p:spPr>
              <a:xfrm>
                <a:off x="44928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30"/>
              <p:cNvSpPr/>
              <p:nvPr/>
            </p:nvSpPr>
            <p:spPr>
              <a:xfrm>
                <a:off x="1158480" y="2104920"/>
                <a:ext cx="537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Universe is made of matte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16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86" name="Rectangle 4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Group 15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88" name="Line 5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7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12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91" name="Line 10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6800760" y="1452600"/>
            <a:ext cx="2305080" cy="1520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3"/>
          <p:cNvSpPr/>
          <p:nvPr/>
        </p:nvSpPr>
        <p:spPr>
          <a:xfrm>
            <a:off x="1295280" y="2819520"/>
            <a:ext cx="7010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 in one of 3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– definite shape &amp;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– definite volume, no definite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– no definite volume, no definite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"/>
          <p:cNvPicPr/>
          <p:nvPr/>
        </p:nvPicPr>
        <p:blipFill>
          <a:blip r:embed="rId1"/>
          <a:srcRect l="0" t="0" r="48097" b="0"/>
          <a:stretch/>
        </p:blipFill>
        <p:spPr>
          <a:xfrm>
            <a:off x="304920" y="457200"/>
            <a:ext cx="8634240" cy="5334120"/>
          </a:xfrm>
          <a:prstGeom prst="rect">
            <a:avLst/>
          </a:prstGeom>
          <a:ln w="0">
            <a:noFill/>
          </a:ln>
        </p:spPr>
      </p:pic>
      <p:sp>
        <p:nvSpPr>
          <p:cNvPr id="202" name="Rounded Rectangle 1"/>
          <p:cNvSpPr/>
          <p:nvPr/>
        </p:nvSpPr>
        <p:spPr>
          <a:xfrm>
            <a:off x="533520" y="609480"/>
            <a:ext cx="457200" cy="533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533520"/>
              <a:gd name="textAreaBottom" fmla="*/ 511200 h 533520"/>
            </a:gdLst>
            <a:ahLst/>
            <a:rect l="textAreaLeft" t="textAreaTop" r="textAreaRight" b="textAreaBottom"/>
            <a:pathLst>
              <a:path w="21600" h="25203">
                <a:moveTo>
                  <a:pt x="3600" y="0"/>
                </a:moveTo>
                <a:arcTo wR="3600" hR="3600" stAng="16200000" swAng="-5400000"/>
                <a:lnTo>
                  <a:pt x="0" y="21603"/>
                </a:lnTo>
                <a:arcTo wR="3600" hR="3600" stAng="10800000" swAng="-5400000"/>
                <a:lnTo>
                  <a:pt x="18000" y="25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ounded Rectangle 2"/>
          <p:cNvSpPr/>
          <p:nvPr/>
        </p:nvSpPr>
        <p:spPr>
          <a:xfrm>
            <a:off x="6248520" y="5335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rcRect l="51706" t="21365" r="0" b="0"/>
          <a:stretch/>
        </p:blipFill>
        <p:spPr>
          <a:xfrm>
            <a:off x="609480" y="533520"/>
            <a:ext cx="8001000" cy="53784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"/>
          <p:cNvSpPr/>
          <p:nvPr/>
        </p:nvSpPr>
        <p:spPr>
          <a:xfrm>
            <a:off x="1447920" y="838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Carb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Try Your Own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Magnesium (M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Helium (H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ulfur 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When an atom gains or loses electrons it becomes an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Gains a positive or negative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xample = Lith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5915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hat are the most reactive e</a:t>
            </a:r>
            <a:r>
              <a:rPr b="0" lang="en-US" sz="4400" spc="-1" strike="noStrike" baseline="30000">
                <a:solidFill>
                  <a:srgbClr val="c00000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VALENC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Outermost energy leve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Draw a Lewis Dot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0"/>
            <a:ext cx="9159840" cy="5850000"/>
            <a:chOff x="0" y="0"/>
            <a:chExt cx="9159840" cy="5850000"/>
          </a:xfrm>
        </p:grpSpPr>
        <p:grpSp>
          <p:nvGrpSpPr>
            <p:cNvPr id="214" name="Group 3"/>
            <p:cNvGrpSpPr/>
            <p:nvPr/>
          </p:nvGrpSpPr>
          <p:grpSpPr>
            <a:xfrm>
              <a:off x="457200" y="1430280"/>
              <a:ext cx="8305920" cy="4419720"/>
              <a:chOff x="457200" y="1430280"/>
              <a:chExt cx="8305920" cy="4419720"/>
            </a:xfrm>
          </p:grpSpPr>
          <p:sp>
            <p:nvSpPr>
              <p:cNvPr id="215" name="AutoShape 4"/>
              <p:cNvSpPr/>
              <p:nvPr/>
            </p:nvSpPr>
            <p:spPr>
              <a:xfrm>
                <a:off x="457200" y="143028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Rectangle 5"/>
              <p:cNvSpPr/>
              <p:nvPr/>
            </p:nvSpPr>
            <p:spPr>
              <a:xfrm>
                <a:off x="1143720" y="1535040"/>
                <a:ext cx="1851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Isotop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6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218" name="Rectangle 7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Group 8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220" name="Line 9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0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Group 11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223" name="Line 12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13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5" name="Rectangle 16"/>
          <p:cNvSpPr/>
          <p:nvPr/>
        </p:nvSpPr>
        <p:spPr>
          <a:xfrm>
            <a:off x="1371600" y="3535200"/>
            <a:ext cx="7391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 isotopes are radioactive and emit energy and part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7"/>
          <p:cNvSpPr/>
          <p:nvPr/>
        </p:nvSpPr>
        <p:spPr>
          <a:xfrm>
            <a:off x="1362240" y="2014560"/>
            <a:ext cx="716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otop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an element have the same number of protons but varying numbers of neutr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8"/>
          <p:cNvSpPr/>
          <p:nvPr/>
        </p:nvSpPr>
        <p:spPr>
          <a:xfrm>
            <a:off x="1362240" y="27558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ve different mass numbers: the sum of the neutrons plus prot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236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1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231" name="Group 3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232" name="AutoShape 4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5"/>
              <p:cNvSpPr/>
              <p:nvPr/>
            </p:nvSpPr>
            <p:spPr>
              <a:xfrm>
                <a:off x="1142280" y="2104920"/>
                <a:ext cx="3568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Why Atoms Bon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Group 6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235" name="Rectangle 7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Group 8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237" name="Line 9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Rectangle 10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Group 11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240" name="Line 12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13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2" name="Rectangle 22"/>
          <p:cNvSpPr/>
          <p:nvPr/>
        </p:nvSpPr>
        <p:spPr>
          <a:xfrm>
            <a:off x="1447920" y="2743200"/>
            <a:ext cx="708660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oms are likely to for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bo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one or more atoms to fill their outermost energy level (valenc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pounds form when atoms are more stable in a combine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st stable elements = Noble gases (group 1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0" y="0"/>
            <a:ext cx="9159840" cy="5951520"/>
            <a:chOff x="0" y="0"/>
            <a:chExt cx="9159840" cy="5951520"/>
          </a:xfrm>
        </p:grpSpPr>
        <p:grpSp>
          <p:nvGrpSpPr>
            <p:cNvPr id="245" name="Group 3"/>
            <p:cNvGrpSpPr/>
            <p:nvPr/>
          </p:nvGrpSpPr>
          <p:grpSpPr>
            <a:xfrm>
              <a:off x="457200" y="1531800"/>
              <a:ext cx="8305920" cy="4419720"/>
              <a:chOff x="457200" y="1531800"/>
              <a:chExt cx="8305920" cy="4419720"/>
            </a:xfrm>
          </p:grpSpPr>
          <p:sp>
            <p:nvSpPr>
              <p:cNvPr id="246" name="AutoShape 4"/>
              <p:cNvSpPr/>
              <p:nvPr/>
            </p:nvSpPr>
            <p:spPr>
              <a:xfrm>
                <a:off x="457200" y="1531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5"/>
              <p:cNvSpPr/>
              <p:nvPr/>
            </p:nvSpPr>
            <p:spPr>
              <a:xfrm>
                <a:off x="1144080" y="1560600"/>
                <a:ext cx="5260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ypes of Chemical Bonds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6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249" name="Rectangle 7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Group 8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251" name="Line 9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Rectangle 10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Group 11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254" name="Line 12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13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6" name="Rectangle 15"/>
          <p:cNvSpPr/>
          <p:nvPr/>
        </p:nvSpPr>
        <p:spPr>
          <a:xfrm>
            <a:off x="1343160" y="302724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onic bon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m between positive and negative ions. There is a transfer of electr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380960" y="21384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valent bon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m when atoms share elec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371600" y="44370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etallic bon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m when metal ions share elec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Covalent Bond     Metallic Bo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704880" y="1600200"/>
            <a:ext cx="3456000" cy="4164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4146480" y="1905120"/>
            <a:ext cx="49690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31"/>
          <p:cNvGrpSpPr/>
          <p:nvPr/>
        </p:nvGrpSpPr>
        <p:grpSpPr>
          <a:xfrm>
            <a:off x="-15840" y="0"/>
            <a:ext cx="9159840" cy="6248520"/>
            <a:chOff x="-15840" y="0"/>
            <a:chExt cx="9159840" cy="6248520"/>
          </a:xfrm>
        </p:grpSpPr>
        <p:grpSp>
          <p:nvGrpSpPr>
            <p:cNvPr id="97" name="Group 28"/>
            <p:cNvGrpSpPr/>
            <p:nvPr/>
          </p:nvGrpSpPr>
          <p:grpSpPr>
            <a:xfrm>
              <a:off x="449280" y="1828800"/>
              <a:ext cx="8305920" cy="4419720"/>
              <a:chOff x="449280" y="1828800"/>
              <a:chExt cx="8305920" cy="4419720"/>
            </a:xfrm>
          </p:grpSpPr>
          <p:sp>
            <p:nvSpPr>
              <p:cNvPr id="98" name="AutoShape 29"/>
              <p:cNvSpPr/>
              <p:nvPr/>
            </p:nvSpPr>
            <p:spPr>
              <a:xfrm>
                <a:off x="44928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30"/>
              <p:cNvSpPr/>
              <p:nvPr/>
            </p:nvSpPr>
            <p:spPr>
              <a:xfrm>
                <a:off x="1143360" y="2104920"/>
                <a:ext cx="1986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Element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6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101" name="Rectangle 4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Group 15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103" name="Line 5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Rectangle 7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12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106" name="Line 10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11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1295280" y="2819520"/>
            <a:ext cx="701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ubstance that cannot be broken down by chemical or physical me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ver 100 elements are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se symbols ex: H = hydr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Ionic Bo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76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7"/>
          <p:cNvGrpSpPr/>
          <p:nvPr/>
        </p:nvGrpSpPr>
        <p:grpSpPr>
          <a:xfrm>
            <a:off x="-15840" y="0"/>
            <a:ext cx="9159840" cy="6248520"/>
            <a:chOff x="-15840" y="0"/>
            <a:chExt cx="9159840" cy="6248520"/>
          </a:xfrm>
        </p:grpSpPr>
        <p:grpSp>
          <p:nvGrpSpPr>
            <p:cNvPr id="111" name="Group 26"/>
            <p:cNvGrpSpPr/>
            <p:nvPr/>
          </p:nvGrpSpPr>
          <p:grpSpPr>
            <a:xfrm>
              <a:off x="441360" y="1430280"/>
              <a:ext cx="8305920" cy="4818240"/>
              <a:chOff x="441360" y="1430280"/>
              <a:chExt cx="8305920" cy="4818240"/>
            </a:xfrm>
          </p:grpSpPr>
          <p:sp>
            <p:nvSpPr>
              <p:cNvPr id="112" name="AutoShape 14"/>
              <p:cNvSpPr/>
              <p:nvPr/>
            </p:nvSpPr>
            <p:spPr>
              <a:xfrm>
                <a:off x="441360" y="1430280"/>
                <a:ext cx="8305920" cy="481824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16"/>
              <p:cNvSpPr/>
              <p:nvPr/>
            </p:nvSpPr>
            <p:spPr>
              <a:xfrm>
                <a:off x="1108440" y="1600200"/>
                <a:ext cx="1445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Atom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5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Group 7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117" name="Line 8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9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Group 10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120" name="Line 11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12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2" name="Rectangle 24"/>
          <p:cNvSpPr/>
          <p:nvPr/>
        </p:nvSpPr>
        <p:spPr>
          <a:xfrm>
            <a:off x="1295280" y="2057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allest particles of ma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1314360" y="26002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all the characteristics of a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1"/>
          <p:cNvSpPr/>
          <p:nvPr/>
        </p:nvSpPr>
        <p:spPr>
          <a:xfrm>
            <a:off x="1762200" y="4525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trons: neutral; mass = 1 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2"/>
          <p:cNvSpPr/>
          <p:nvPr/>
        </p:nvSpPr>
        <p:spPr>
          <a:xfrm>
            <a:off x="1314360" y="31194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cle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 part of an atom and cont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3"/>
          <p:cNvSpPr/>
          <p:nvPr/>
        </p:nvSpPr>
        <p:spPr>
          <a:xfrm>
            <a:off x="1781280" y="4068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tons: positive charge; mass = 1 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2"/>
          <p:cNvSpPr/>
          <p:nvPr/>
        </p:nvSpPr>
        <p:spPr>
          <a:xfrm>
            <a:off x="1422360" y="49831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omic m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number of protons AND neutrons in the nucle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130" name="Group 3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131" name="AutoShape 4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5"/>
              <p:cNvSpPr/>
              <p:nvPr/>
            </p:nvSpPr>
            <p:spPr>
              <a:xfrm>
                <a:off x="1143360" y="2104920"/>
                <a:ext cx="1445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Atom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6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134" name="Rectangle 7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Group 8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136" name="Line 9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10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11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139" name="Line 12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Rectangle 13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1292400" y="2581200"/>
            <a:ext cx="44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ergy lev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1676520" y="3100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rround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1704960" y="3505320"/>
            <a:ext cx="7238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ns: negative charge, 1/1836 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1305000" y="4410000"/>
            <a:ext cx="7391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omic numb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number of protons in the nucleus of an atom. Also tells us the number of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-15840" y="0"/>
            <a:ext cx="9159840" cy="1430280"/>
            <a:chOff x="-15840" y="0"/>
            <a:chExt cx="9159840" cy="1430280"/>
          </a:xfrm>
        </p:grpSpPr>
        <p:sp>
          <p:nvSpPr>
            <p:cNvPr id="147" name="Rectangle 3"/>
            <p:cNvSpPr/>
            <p:nvPr/>
          </p:nvSpPr>
          <p:spPr>
            <a:xfrm>
              <a:off x="-936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-15840" y="0"/>
              <a:ext cx="9159840" cy="136440"/>
              <a:chOff x="-15840" y="0"/>
              <a:chExt cx="9159840" cy="13644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-1584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-1584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Group 7"/>
            <p:cNvGrpSpPr/>
            <p:nvPr/>
          </p:nvGrpSpPr>
          <p:grpSpPr>
            <a:xfrm>
              <a:off x="-7920" y="1219320"/>
              <a:ext cx="9144000" cy="210960"/>
              <a:chOff x="-7920" y="1219320"/>
              <a:chExt cx="9144000" cy="210960"/>
            </a:xfrm>
          </p:grpSpPr>
          <p:sp>
            <p:nvSpPr>
              <p:cNvPr id="152" name="Line 8"/>
              <p:cNvSpPr/>
              <p:nvPr/>
            </p:nvSpPr>
            <p:spPr>
              <a:xfrm>
                <a:off x="-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9"/>
              <p:cNvSpPr/>
              <p:nvPr/>
            </p:nvSpPr>
            <p:spPr>
              <a:xfrm>
                <a:off x="-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of an At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Group 22"/>
          <p:cNvGrpSpPr/>
          <p:nvPr/>
        </p:nvGrpSpPr>
        <p:grpSpPr>
          <a:xfrm>
            <a:off x="914400" y="1676520"/>
            <a:ext cx="7467480" cy="4876560"/>
            <a:chOff x="914400" y="1676520"/>
            <a:chExt cx="7467480" cy="4876560"/>
          </a:xfrm>
        </p:grpSpPr>
        <p:sp>
          <p:nvSpPr>
            <p:cNvPr id="156" name="AutoShape 12"/>
            <p:cNvSpPr/>
            <p:nvPr/>
          </p:nvSpPr>
          <p:spPr>
            <a:xfrm>
              <a:off x="914400" y="1676520"/>
              <a:ext cx="7467480" cy="487656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Picture 21" descr=""/>
            <p:cNvPicPr/>
            <p:nvPr/>
          </p:nvPicPr>
          <p:blipFill>
            <a:blip r:embed="rId1"/>
            <a:stretch/>
          </p:blipFill>
          <p:spPr>
            <a:xfrm>
              <a:off x="1434960" y="2031840"/>
              <a:ext cx="6425640" cy="416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2"/>
          <p:cNvSpPr/>
          <p:nvPr/>
        </p:nvSpPr>
        <p:spPr>
          <a:xfrm>
            <a:off x="3962520" y="2590920"/>
            <a:ext cx="1523880" cy="1600200"/>
          </a:xfrm>
          <a:prstGeom prst="ellipse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4076640" y="3160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5"/>
          <p:cNvSpPr/>
          <p:nvPr/>
        </p:nvSpPr>
        <p:spPr>
          <a:xfrm>
            <a:off x="3371760" y="1981080"/>
            <a:ext cx="2705040" cy="281952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2886120" y="1409760"/>
            <a:ext cx="3676680" cy="396252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7"/>
          <p:cNvSpPr/>
          <p:nvPr/>
        </p:nvSpPr>
        <p:spPr>
          <a:xfrm>
            <a:off x="2509920" y="971640"/>
            <a:ext cx="4429080" cy="483876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4381560" y="151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4381560" y="971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371840" y="5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185760" y="309600"/>
            <a:ext cx="38908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Each energy level can hold a certain number of electrons. The farther away from the nucleus, the more electrons the energy level can 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176040" y="2438280"/>
            <a:ext cx="279576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The number of electrons each level can hold is determined by using the equation 2(n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) where n = the number of the energ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13"/>
          <p:cNvSpPr/>
          <p:nvPr/>
        </p:nvSpPr>
        <p:spPr>
          <a:xfrm>
            <a:off x="6076800" y="2705040"/>
            <a:ext cx="2819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energy level = 2(n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) = 2(1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) = 2(1) = 2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14"/>
          <p:cNvSpPr/>
          <p:nvPr/>
        </p:nvSpPr>
        <p:spPr>
          <a:xfrm>
            <a:off x="6229440" y="1473120"/>
            <a:ext cx="28191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energy level = 2(n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) = 2(2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) = 2(4) = 8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5791320" y="493560"/>
            <a:ext cx="3105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3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energy level = 2(n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) = 2(3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) = 2(9) = 18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31"/>
          <p:cNvGrpSpPr/>
          <p:nvPr/>
        </p:nvGrpSpPr>
        <p:grpSpPr>
          <a:xfrm>
            <a:off x="-15840" y="0"/>
            <a:ext cx="9159840" cy="6257880"/>
            <a:chOff x="-15840" y="0"/>
            <a:chExt cx="9159840" cy="6257880"/>
          </a:xfrm>
        </p:grpSpPr>
        <p:grpSp>
          <p:nvGrpSpPr>
            <p:cNvPr id="172" name="Group 28"/>
            <p:cNvGrpSpPr/>
            <p:nvPr/>
          </p:nvGrpSpPr>
          <p:grpSpPr>
            <a:xfrm>
              <a:off x="449280" y="1838160"/>
              <a:ext cx="8305920" cy="4419720"/>
              <a:chOff x="449280" y="1838160"/>
              <a:chExt cx="8305920" cy="4419720"/>
            </a:xfrm>
          </p:grpSpPr>
          <p:sp>
            <p:nvSpPr>
              <p:cNvPr id="173" name="AutoShape 29"/>
              <p:cNvSpPr/>
              <p:nvPr/>
            </p:nvSpPr>
            <p:spPr>
              <a:xfrm>
                <a:off x="449280" y="183816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30"/>
              <p:cNvSpPr/>
              <p:nvPr/>
            </p:nvSpPr>
            <p:spPr>
              <a:xfrm>
                <a:off x="1132200" y="2104920"/>
                <a:ext cx="295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Periodic Tabl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6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176" name="Rectangle 4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Group 15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178" name="Line 5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7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Group 12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181" name="Line 10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1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1295280" y="2819520"/>
            <a:ext cx="7010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Numbe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valence electrons in each element in that group (colum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riod Numbe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umber of energy levels containing electrons for every element in that period (r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Chemical Symbol Inf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Content Placeholder 3" descr="Alumninum.jpg"/>
          <p:cNvPicPr/>
          <p:nvPr/>
        </p:nvPicPr>
        <p:blipFill>
          <a:blip r:embed="rId1"/>
          <a:stretch/>
        </p:blipFill>
        <p:spPr>
          <a:xfrm>
            <a:off x="1219320" y="914400"/>
            <a:ext cx="5711760" cy="571176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188" name="Rectangle 4"/>
          <p:cNvSpPr/>
          <p:nvPr/>
        </p:nvSpPr>
        <p:spPr>
          <a:xfrm>
            <a:off x="1371600" y="1066680"/>
            <a:ext cx="1523880" cy="838440"/>
          </a:xfrm>
          <a:prstGeom prst="rect">
            <a:avLst/>
          </a:prstGeom>
          <a:solidFill>
            <a:srgbClr val="dddddd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523880" y="1600200"/>
            <a:ext cx="609840" cy="762120"/>
          </a:xfrm>
          <a:prstGeom prst="rect">
            <a:avLst/>
          </a:prstGeom>
          <a:solidFill>
            <a:srgbClr val="dddddd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5562720" y="5334120"/>
            <a:ext cx="1218960" cy="1066680"/>
          </a:xfrm>
          <a:prstGeom prst="rect">
            <a:avLst/>
          </a:prstGeom>
          <a:solidFill>
            <a:srgbClr val="dddddd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486400" y="5410080"/>
            <a:ext cx="152280" cy="1067040"/>
          </a:xfrm>
          <a:prstGeom prst="rect">
            <a:avLst/>
          </a:prstGeom>
          <a:solidFill>
            <a:srgbClr val="dddddd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286000" y="5943600"/>
            <a:ext cx="4191120" cy="533520"/>
          </a:xfrm>
          <a:prstGeom prst="rect">
            <a:avLst/>
          </a:prstGeom>
          <a:solidFill>
            <a:srgbClr val="dddddd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5562720" y="2209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eft Arrow 10"/>
          <p:cNvSpPr/>
          <p:nvPr/>
        </p:nvSpPr>
        <p:spPr>
          <a:xfrm>
            <a:off x="4648320" y="2286000"/>
            <a:ext cx="838080" cy="22860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003366"/>
          </a:solidFill>
          <a:ln w="25560">
            <a:solidFill>
              <a:srgbClr val="002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eft Arrow 11"/>
          <p:cNvSpPr/>
          <p:nvPr/>
        </p:nvSpPr>
        <p:spPr>
          <a:xfrm>
            <a:off x="4952880" y="3657600"/>
            <a:ext cx="1067040" cy="30492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003366"/>
          </a:solidFill>
          <a:ln w="25560">
            <a:solidFill>
              <a:srgbClr val="002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eft Arrow 12"/>
          <p:cNvSpPr/>
          <p:nvPr/>
        </p:nvSpPr>
        <p:spPr>
          <a:xfrm>
            <a:off x="4952880" y="4648320"/>
            <a:ext cx="99072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002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eft Arrow 13"/>
          <p:cNvSpPr/>
          <p:nvPr/>
        </p:nvSpPr>
        <p:spPr>
          <a:xfrm>
            <a:off x="4952880" y="5257800"/>
            <a:ext cx="11430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002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6095880" y="3657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6019920" y="4572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6172200" y="5181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0:31:17Z</dcterms:created>
  <dc:creator>Stan &amp; Cindy Hatfield</dc:creator>
  <dc:description/>
  <dc:language>en-US</dc:language>
  <cp:lastModifiedBy>Builder</cp:lastModifiedBy>
  <cp:lastPrinted>2009-04-22T19:24:48Z</cp:lastPrinted>
  <dcterms:modified xsi:type="dcterms:W3CDTF">2013-09-24T12:12:15Z</dcterms:modified>
  <cp:revision>353</cp:revision>
  <dc:subject/>
  <dc:title>Volcanoes and Igneous Activity  Earth  -  Chapter 4</dc:title>
</cp:coreProperties>
</file>